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1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13.jpeg" ContentType="image/jpeg"/>
  <Override PartName="/ppt/media/image8.jpeg" ContentType="image/jpeg"/>
  <Override PartName="/ppt/media/image2.jpeg" ContentType="image/jpeg"/>
  <Override PartName="/ppt/media/Sleigh%20Ride.wav" ContentType="audio/x-wav"/>
  <Override PartName="/ppt/media/image3.jpeg" ContentType="image/jpeg"/>
  <Override PartName="/ppt/media/image12.gif" ContentType="image/gif"/>
  <Override PartName="/ppt/media/image4.gif" ContentType="image/gif"/>
  <Override PartName="/ppt/media/image7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2EA-2642-448A-B981-70C1038B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792-68F0-4B72-90FA-BD2670FF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01E-F1C2-427D-B7AF-BAB9A343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867-5B05-49BB-A729-EF391B84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FAB-E9DE-428D-838A-A7BC6EAE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245-AEFD-44DD-A4E0-A94DC1F3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1CB-52C2-4388-B7C1-EC157117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966-68C8-40AE-8F85-5704CBAF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E65-7980-4C51-9C9A-22E626C0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F19-2776-4614-AEC0-DA78C2CD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A01-95A7-4A29-A244-C1AA0D77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FAD-04E3-471F-BE53-F65B0230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16D8-7779-4B0A-B078-88DA7D889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leigh%20Rid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5616720" cy="1470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Monotype Corsiva"/>
              </a:rPr>
              <a:t>SLEIGH RID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64000" y="5118120"/>
            <a:ext cx="3780000" cy="22885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Jorge , Susana , Raúl S , Celia , Raúl R , Nerea y Rubé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33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Just hear those sleigh bells jingling,     ring-ting-tingling, too.</a:t>
            </a:r>
            <a:br>
              <a:rPr sz="3200"/>
            </a:b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me on, it's lovely weather for a sleigh ride together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Let's take that road before us and sing a chorus or two </a:t>
            </a:r>
            <a:br>
              <a:rPr sz="3200"/>
            </a:b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427640" y="1052280"/>
            <a:ext cx="40384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66ff66"/>
                </a:solidFill>
                <a:latin typeface="Arial"/>
              </a:rPr>
              <a:t>Come on, it's lovely weather for a sleigh ride together with you.</a:t>
            </a:r>
            <a:br>
              <a:rPr sz="2800"/>
            </a:br>
            <a:r>
              <a:rPr b="0" lang="es-ES" sz="2800" spc="-1" strike="noStrike">
                <a:solidFill>
                  <a:srgbClr val="66ff66"/>
                </a:solidFill>
                <a:latin typeface="Arial"/>
              </a:rPr>
              <a:t>                            Come on, it's lovely weather for a sleigh ride together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87560" y="42242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Monotype Corsiva"/>
              </a:rPr>
              <a:t>Just hear those sleigh bells jingling, ring-ting-tingling, too 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Monotype Corsiva"/>
              </a:rPr>
              <a:t>Come on, it's lovely weather for a sleigh ride together with you</a:t>
            </a:r>
            <a:r>
              <a:rPr b="1" lang="es-ES" sz="2800" spc="-1" strike="noStrike">
                <a:solidFill>
                  <a:srgbClr val="003300"/>
                </a:solidFill>
                <a:latin typeface="Monotype Corsiv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edge/>
    <p:sndAc>
      <p:stSnd>
        <p:snd r:embed="rId2" name="Sleigh%20Ri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770000"/>
            <a:ext cx="914400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3333cc"/>
                </a:solidFill>
                <a:latin typeface="Monotype Corsiva"/>
              </a:rPr>
              <a:t>Outside the snow is falling and friends are calling, 'Yoo-hoo!' </a:t>
            </a:r>
            <a:br>
              <a:rPr sz="3600"/>
            </a:br>
            <a:r>
              <a:rPr b="1" i="1" lang="es-ES" sz="3600" spc="-1" strike="noStrike">
                <a:solidFill>
                  <a:srgbClr val="3333cc"/>
                </a:solidFill>
                <a:latin typeface="Monotype Corsiva"/>
              </a:rPr>
              <a:t>Come on, it's lovely weather for a sleigh ride together with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390400" y="5202000"/>
            <a:ext cx="6753240" cy="1655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Monotype Corsiva"/>
              </a:rPr>
              <a:t>Giddy-up, giddy-up, giddy-up, let's go </a:t>
            </a:r>
            <a:br>
              <a:rPr sz="3600"/>
            </a:br>
            <a:r>
              <a:rPr b="1" i="1" lang="es-ES" sz="3600" spc="-1" strike="noStrike">
                <a:solidFill>
                  <a:srgbClr val="ffff00"/>
                </a:solidFill>
                <a:latin typeface="Monotype Corsiva"/>
              </a:rPr>
              <a:t>Let's look at the show </a:t>
            </a:r>
            <a:br>
              <a:rPr sz="3600"/>
            </a:br>
            <a:r>
              <a:rPr b="1" i="1" lang="es-ES" sz="3600" spc="-1" strike="noStrike">
                <a:solidFill>
                  <a:srgbClr val="ffff00"/>
                </a:solidFill>
                <a:latin typeface="Monotype Corsiva"/>
              </a:rPr>
              <a:t>We're riding in a wonderland of s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770000"/>
            <a:ext cx="9144000" cy="20876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Monotype Corsiva"/>
              </a:rPr>
              <a:t>Giddy-up, giddy-up, giddy-up, it's grand </a:t>
            </a:r>
            <a:br>
              <a:rPr sz="3600"/>
            </a:br>
            <a:r>
              <a:rPr b="1" i="1" lang="es-ES" sz="3600" spc="-1" strike="noStrike">
                <a:solidFill>
                  <a:srgbClr val="ffff00"/>
                </a:solidFill>
                <a:latin typeface="Monotype Corsiva"/>
              </a:rPr>
              <a:t>Just holding your hand </a:t>
            </a:r>
            <a:br>
              <a:rPr sz="3600"/>
            </a:br>
            <a:r>
              <a:rPr b="1" i="1" lang="es-ES" sz="3600" spc="-1" strike="noStrike">
                <a:solidFill>
                  <a:srgbClr val="ffff00"/>
                </a:solidFill>
                <a:latin typeface="Monotype Corsiva"/>
              </a:rPr>
              <a:t>We're gliding along with a song of a wintery fairyland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084640"/>
            <a:ext cx="9144000" cy="177336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66ff66"/>
                </a:solidFill>
                <a:latin typeface="Monotype Corsiva"/>
              </a:rPr>
              <a:t>Our cheeks are nice and rosy and comfy-cozy are we </a:t>
            </a:r>
            <a:br>
              <a:rPr sz="3200"/>
            </a:br>
            <a:r>
              <a:rPr b="1" i="1" lang="es-ES" sz="3200" spc="-1" strike="noStrike">
                <a:solidFill>
                  <a:srgbClr val="66ff66"/>
                </a:solidFill>
                <a:latin typeface="Monotype Corsiva"/>
              </a:rPr>
              <a:t>We're snuggled up together like two birds of a feather would b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97360"/>
            <a:ext cx="9144000" cy="206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Monotype Corsiva"/>
              </a:rPr>
              <a:t>Let's take that road before us and sing a chorus or two </a:t>
            </a:r>
            <a:br>
              <a:rPr sz="3600"/>
            </a:br>
            <a:r>
              <a:rPr b="1" i="1" lang="es-ES" sz="3600" spc="-1" strike="noStrike">
                <a:solidFill>
                  <a:srgbClr val="ffffff"/>
                </a:solidFill>
                <a:latin typeface="Monotype Corsiva"/>
              </a:rPr>
              <a:t>Come on, it's lovely weather for a sleigh ride together with you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63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60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There's a birthday party at the home of Farmer Gray</a:t>
            </a:r>
            <a:br>
              <a:rPr sz="2400"/>
            </a:b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It'll be the perfect ending of a perfect day</a:t>
            </a:r>
            <a:br>
              <a:rPr sz="2400"/>
            </a:b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We'll be singing the songs we love to sing without a single stop</a:t>
            </a:r>
            <a:br>
              <a:rPr sz="2400"/>
            </a:b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At the fireplace while we watch the chestnuts po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273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here's a happy feeling nothing in the world can buy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When they pass around the coffee and the pumpkin pie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t'll nearly be like a picture print by Currier and Ive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Yet these wonderful things we remember all through our liv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5213520"/>
            <a:ext cx="2195640" cy="164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04000" y="5043600"/>
            <a:ext cx="2340000" cy="18144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4:51:42Z</dcterms:created>
  <dc:creator>pc10</dc:creator>
  <dc:description/>
  <dc:language>en-US</dc:language>
  <cp:lastModifiedBy>pc10</cp:lastModifiedBy>
  <dcterms:modified xsi:type="dcterms:W3CDTF">2011-12-21T15:30:27Z</dcterms:modified>
  <cp:revision>9</cp:revision>
  <dc:subject/>
  <dc:title>SLEIGH RIDE</dc:title>
</cp:coreProperties>
</file>